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ED5-B07C-4A88-8431-8CF816FB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069-B14A-4816-9290-C7F95CBF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E16-9FD7-4172-9BE9-4BCFEAB4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5B39-4E81-4264-8F96-8732BE74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A117-555F-43DC-9B77-D3B0D1D9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1AE7-65FF-4D64-9CD4-737086C5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F117-443F-4577-958C-723FC371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3863-702C-4984-ADBB-575D4B86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E94E-4A3C-40DF-968E-C3F0CCF8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2131-F9C6-453B-8E09-41668631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B725-2765-4C68-B7E6-7C06EC5F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02E-755C-4DDA-915D-D109B31E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9187-A97F-4361-810F-70FB5B09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EEFE-20C4-471C-A6B5-8E3CC5AD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A760-5047-4780-A485-6F559EAE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3508-549E-4046-938B-571FEC89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4CD5-A190-4CFD-8F7F-B8E77BE2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544-CBCD-4E78-9B35-11465500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AEC-30E0-43A5-82DA-45114F63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C62-33E0-4AC8-8301-D38B12A7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408-C28D-4C48-AEB4-26957EA7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6E1-6AA2-4797-9DF5-6C6F71E3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B61-486C-4349-84E6-B87D932F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7C0-7D2A-4175-B0F9-F05F7DDF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5B45-F4A8-4704-BA4A-89405B8C7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C5C0-47D4-4170-8037-FA3B27B0423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5"/>
          <p:cNvSpPr txBox="1"/>
          <p:nvPr/>
        </p:nvSpPr>
        <p:spPr>
          <a:xfrm>
            <a:off x="533520" y="1752480"/>
            <a:ext cx="67053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nrenewab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nerg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ossil Fuel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remains of ancient organisms that changed into </a:t>
            </a: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coal, oil, or natural g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ovide most of the energy used tod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2 main problem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upply is 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limit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btaining and using them causes 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environmental problem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Picture 4" descr="c:\program files\microsoft office\clipart\standard\stddir3\in00563_.wmf"/>
          <p:cNvPicPr/>
          <p:nvPr/>
        </p:nvPicPr>
        <p:blipFill>
          <a:blip r:embed="rId1"/>
          <a:stretch/>
        </p:blipFill>
        <p:spPr>
          <a:xfrm>
            <a:off x="7264440" y="2438280"/>
            <a:ext cx="1879560" cy="1603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www.thegenerator.biz/RetroBeverlyHillbillies62.jpg"/>
          <p:cNvPicPr/>
          <p:nvPr/>
        </p:nvPicPr>
        <p:blipFill>
          <a:blip r:embed="rId2"/>
          <a:srcRect l="19581" t="21487" r="8617" b="0"/>
          <a:stretch/>
        </p:blipFill>
        <p:spPr>
          <a:xfrm>
            <a:off x="7238880" y="419112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uels for Different Us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sed for </a:t>
            </a: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5 main purpose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Cook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Transport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Manufactur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Heating &amp; cooling building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Generating electricity to run machines &amp; applianc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Suitabilit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of a fuel for each application depends on the fuel’s energy content, cost, availability &amp; safety, and the byproducts of the fuel’s u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1320"/>
            <a:ext cx="7848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ectricity – Power on Deman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in fuels is often converted into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electrical energ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in order to power machines because electricity is more convenient to u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Can be transported quickly across long or short distanc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Disadvantages of electricity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ifficult to sto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ther energy sources have to be used to generate i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1320"/>
            <a:ext cx="784872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ow is Electricity Generated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Electric generator: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converts mechanical energy (motion) into electrical energ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ses a </a:t>
            </a:r>
            <a:r>
              <a:rPr b="0" i="1" lang="en-US" sz="2400" spc="-1" strike="noStrike">
                <a:solidFill>
                  <a:srgbClr val="fe1f08"/>
                </a:solidFill>
                <a:latin typeface="Arial Black"/>
              </a:rPr>
              <a:t>turbin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(wheel that changes the force of a moving gas or liquid into energy that can do work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ater is boiled to produce the steam that turns the turbin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water is heated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by burning a fuel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(coal, gas) or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by fission of uranium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in nuclear pla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turbine spins a generator to produce electric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17_01"/>
          <p:cNvPicPr/>
          <p:nvPr/>
        </p:nvPicPr>
        <p:blipFill>
          <a:blip r:embed="rId1"/>
          <a:stretch/>
        </p:blipFill>
        <p:spPr>
          <a:xfrm>
            <a:off x="0" y="92556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ergy Use in the U.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ople i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developed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societies use much more energy than people i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developing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countries 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U.S. uses more energy per person than any other country in the world except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Canada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&amp; the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United Arab Emirat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13160" indent="-2743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ses more than 25% of its energy resources to transport goods &amp; people (trucks &amp; personal vehicle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13160" indent="-2743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esidents of U.S. &amp; Canada have some of the lowest gasoline tax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ergy Use in the U.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Picture 3" descr="17_03"/>
          <p:cNvPicPr/>
          <p:nvPr/>
        </p:nvPicPr>
        <p:blipFill>
          <a:blip r:embed="rId1"/>
          <a:stretch/>
        </p:blipFill>
        <p:spPr>
          <a:xfrm>
            <a:off x="2286000" y="1371600"/>
            <a:ext cx="456732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rld Energy U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Picture 3" descr="17_02"/>
          <p:cNvPicPr/>
          <p:nvPr/>
        </p:nvPicPr>
        <p:blipFill>
          <a:blip r:embed="rId1"/>
          <a:stretch/>
        </p:blipFill>
        <p:spPr>
          <a:xfrm>
            <a:off x="838080" y="1752480"/>
            <a:ext cx="7315200" cy="492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21:13:29Z</dcterms:created>
  <dc:creator>Jason Turri</dc:creator>
  <dc:description/>
  <dc:language>en-US</dc:language>
  <cp:lastModifiedBy>Hazleton Area School District</cp:lastModifiedBy>
  <dcterms:modified xsi:type="dcterms:W3CDTF">2009-04-14T11:06:36Z</dcterms:modified>
  <cp:revision>6</cp:revision>
  <dc:subject/>
  <dc:title>Nonrenewable Energy</dc:title>
</cp:coreProperties>
</file>